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CF3-8074-4886-8B34-74DFCE5E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5DF-31DC-42EC-8B8E-888D1D9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C485D-1B9E-4759-9F2F-52FD4FF5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74E17-96CE-4231-99EF-36C2FFD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CF3BE-75AA-4405-AE31-801483FA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7A34D-2264-427D-9948-A683703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C62DEA-5736-4953-A59E-D82C9EF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84CF6-6B9E-488F-9DE9-1BC598E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F73A6F-FDB1-4212-B484-A65DE1B7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C6483D-EC07-4269-B71F-4240E6EC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1803F-C051-4120-B7D0-AD2B8271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CCCD3-DCF9-415F-9427-2FA6D4DD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C51-7CB4-4ADF-8B87-1E22A9A0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E119B2-4D95-4F8E-800F-EC31C66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E4175-5173-4ABF-8230-14CFD7E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16F15-F371-4484-B991-F64F60F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A4B79-0AE9-40B0-A933-0812482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FFF3CC-FA56-4708-A9DE-EDC45C1A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1AB418-62AA-4B55-9DAA-E54331B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D1CD89-1B81-4769-A11F-BC5C712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59CB74-2578-42BB-B213-25D0938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6F8E93-F760-42FC-B637-D0D6AE5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B9F70B-CE4B-4A96-9A49-21CFBD24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32D-DA76-4B5F-9517-547224AC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87564-2166-4A26-9C19-EA611369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357DD-F64B-41D1-AE77-361C0466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0F479-ABCB-41A1-BC51-775C422F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CCE8C5-5195-45D9-87F3-CEA14E1C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D4612-4907-4167-A5AF-04BC848E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03A0E1-2B82-4401-A0B1-9779CE6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9F3648-4109-47A0-BAF6-4B0383F1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123D2B-FAA0-4F16-B6A8-97969DD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DDAD2F-B4BE-4249-8384-884D72B3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DFEC57-E4E2-483A-84B3-12D7D97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51C-61BE-4BC7-8A14-20E70F29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4102A8-718D-4842-976A-77E8700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16E8B-7D61-4BBF-9305-BF020718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7F6F4-EF63-462C-AB5B-9E0FAD88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291-E8A8-483D-8173-D6C353A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A0A0-5C7D-4D88-9F82-08C13E2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371-249E-4A42-8AF9-65602B75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674A-B332-4E9D-BF63-A88525F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BDBA-E805-4C39-80E3-F6BA9D44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B91-69B1-4897-BA04-4ED3F6D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ED2-9EA9-4ADB-B6E1-F3EC061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589E-6AA4-43C1-8751-38B8DBDA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262-8AF9-4650-9771-FF38896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515A-2EC7-43E6-86C7-278DE29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3F16-D97E-4F4C-8DF7-59FE5949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5F1F-7A63-4442-B9A5-9AB35D73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9898-D9B9-4438-8310-CAFC0604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AD92-48B6-4410-9CDF-4D365969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2D36-90A3-4F23-BF97-11B2495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35FF-C026-41B9-9A7D-842847C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2B38-0435-4A54-A91D-D128371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094-4B58-4545-80D0-8F2AFD0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0AE9-61FF-4749-B0D2-BA560F7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20F8-E957-4539-B7E1-F44CEF0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CC0E-8E27-435D-8F67-CD5D702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9587-6C87-4BAA-BC86-59581A3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435F-731D-42A9-BF9B-8AC9E520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1C8E-2353-443C-A2B3-7CBEB889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CEDE-DE82-471B-8553-8F243249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EE3-411B-473B-A707-9438A1B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3B38F-054A-4D26-A582-14811080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ED4-F78D-4CE3-AAEA-9DEE2A8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5B8BC-C11A-4C6C-9DF4-7FC567F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AA7AF-0C7C-427B-AC5C-CA0DAD2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03579-C999-4186-8273-3BFB0E4E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F9998-4109-4803-8F3F-D30BC109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02533-6B93-4938-9B1D-361A864E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6C6FD-74E1-4CCE-9938-890B725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E8BB-B8DB-40EC-9F09-9C42D0A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AFE36-7EE1-4719-9567-C1A9E8ED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6779B-33CF-440E-8562-42CFBD8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FE11B-FDB8-4AA0-9E69-C6F06BF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B33-8771-42AF-A7A1-323EC3C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A4C5A-E813-461D-BB11-0D799C30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3801C-4152-4685-8DDC-8038D1F6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A88DA-592B-4B75-B3B5-5F9B978C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3CFCB-AEB0-4A14-8A1C-0384FAB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338E7-D8BC-40F6-84B6-5DC112D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65BDB-D304-43A4-887A-BEBA3051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828E9-AE44-49C1-A735-383464F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EC0AE-12A7-4852-A8F4-B1CF82B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54FDE-DA95-498F-9397-EAAD82B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8E345-A826-4363-8F11-3EC61276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D65-34DC-4131-8506-98B361F3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93537-30E6-40B2-820E-22D5B60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1254C-9458-42C6-916D-D82BC688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25E50-7F97-4006-8774-9590BAB6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7EAEB-A649-42C4-BA59-0A3896C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A270C-F023-4D10-AD70-5ED9694F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74412-BFB8-4BA9-923B-91612779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F65BE-D413-434B-A8DC-1000A19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F4205-DC09-4851-97CA-853674FE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BD120-BD0F-40A8-90FC-D07CF645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767AA-CBAF-4FC6-AE64-B029FAF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DAB-496D-48F1-A681-100237F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5666D-6DB6-4464-9ACC-5DB2771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F6699-E7CA-4312-A58D-1CC883D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1BA4B-8D89-41E3-A7AC-75CF822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93000-8247-4AA1-AE0D-ABB5A786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B3BD3-356B-4C90-9CD4-6705CBB8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947B7-C8BD-4102-B9D3-08A40F1A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A6985-2C30-4F06-929F-278AB7A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63E9D-0095-46E5-83B4-EF1ADE1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AD7C9C-357C-4052-9604-B952DEC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47C22E-1BCE-4DD5-B99C-AD0BB58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8AF-832D-4EC4-95D5-797026A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09E05-41B0-4D86-A1E9-E7BD786F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D5DDC9-F598-4364-8DB8-AF775B3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3B0308-8976-4D7A-B515-1323925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090AD6-66F4-47E7-AC2A-7726F94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C35DA-2B9E-4660-99A5-9A8BCF88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1270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592CB-C483-43C8-9A78-5085265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1270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FCF430-0A65-45EC-9B0A-729F428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787ED-8B6C-46DA-A71B-585FAFFE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AA099-CBD1-4F31-A487-FBCF915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D690C-30B7-463C-A781-264AB80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564D9-C88D-4849-B893-69863AA2D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420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21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BC39A-6606-4FEA-9664-11CC4F5A5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6"/>
          <p:cNvGrpSpPr/>
          <p:nvPr/>
        </p:nvGrpSpPr>
        <p:grpSpPr>
          <a:xfrm>
            <a:off x="7472160" y="0"/>
            <a:ext cx="44280" cy="6858000"/>
            <a:chOff x="7472160" y="0"/>
            <a:chExt cx="44280" cy="6858000"/>
          </a:xfrm>
        </p:grpSpPr>
        <p:sp>
          <p:nvSpPr>
            <p:cNvPr id="464" name="Straight Connector 7"/>
            <p:cNvSpPr/>
            <p:nvPr/>
          </p:nvSpPr>
          <p:spPr>
            <a:xfrm flipH="1">
              <a:off x="7472160" y="0"/>
              <a:ext cx="1440" cy="685800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5" name="Straight Connector 8"/>
            <p:cNvSpPr/>
            <p:nvPr/>
          </p:nvSpPr>
          <p:spPr>
            <a:xfrm flipH="1">
              <a:off x="7515000" y="0"/>
              <a:ext cx="1440" cy="6858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755604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B4F37-5452-4633-AADF-F13EEEE9F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1460520"/>
            <a:ext cx="9144000" cy="46080"/>
            <a:chOff x="0" y="1460520"/>
            <a:chExt cx="9144000" cy="46080"/>
          </a:xfrm>
        </p:grpSpPr>
        <p:sp>
          <p:nvSpPr>
            <p:cNvPr id="42" name="Straight Connector 7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3" name="Straight Connector 8"/>
            <p:cNvSpPr/>
            <p:nvPr/>
          </p:nvSpPr>
          <p:spPr>
            <a:xfrm>
              <a:off x="0" y="14605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4" name="Group 9"/>
          <p:cNvGrpSpPr/>
          <p:nvPr/>
        </p:nvGrpSpPr>
        <p:grpSpPr>
          <a:xfrm>
            <a:off x="0" y="4952880"/>
            <a:ext cx="9144000" cy="46080"/>
            <a:chOff x="0" y="4952880"/>
            <a:chExt cx="9144000" cy="46080"/>
          </a:xfrm>
        </p:grpSpPr>
        <p:sp>
          <p:nvSpPr>
            <p:cNvPr id="45" name="Straight Connector 10"/>
            <p:cNvSpPr/>
            <p:nvPr/>
          </p:nvSpPr>
          <p:spPr>
            <a:xfrm>
              <a:off x="0" y="499752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>
              <a:off x="0" y="49528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7" name="Oval 12" descr=""/>
          <p:cNvPicPr/>
          <p:nvPr/>
        </p:nvPicPr>
        <p:blipFill>
          <a:blip r:embed="rId3"/>
          <a:stretch/>
        </p:blipFill>
        <p:spPr>
          <a:xfrm>
            <a:off x="55440" y="55440"/>
            <a:ext cx="4559400" cy="4565880"/>
          </a:xfrm>
          <a:prstGeom prst="rect">
            <a:avLst/>
          </a:prstGeom>
          <a:ln w="0">
            <a:noFill/>
          </a:ln>
        </p:spPr>
      </p:pic>
      <p:grpSp>
        <p:nvGrpSpPr>
          <p:cNvPr id="48" name="Oval 13"/>
          <p:cNvGrpSpPr/>
          <p:nvPr/>
        </p:nvGrpSpPr>
        <p:grpSpPr>
          <a:xfrm>
            <a:off x="171360" y="103320"/>
            <a:ext cx="4218120" cy="4219560"/>
            <a:chOff x="171360" y="103320"/>
            <a:chExt cx="4218120" cy="4219560"/>
          </a:xfrm>
        </p:grpSpPr>
        <p:pic>
          <p:nvPicPr>
            <p:cNvPr id="49" name="Oval 13" descr=""/>
            <p:cNvPicPr/>
            <p:nvPr/>
          </p:nvPicPr>
          <p:blipFill>
            <a:blip r:embed="rId4"/>
            <a:stretch/>
          </p:blipFill>
          <p:spPr>
            <a:xfrm>
              <a:off x="171360" y="103320"/>
              <a:ext cx="4218120" cy="42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95240" y="727200"/>
              <a:ext cx="29703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1" name="Oval 14"/>
          <p:cNvGrpSpPr/>
          <p:nvPr/>
        </p:nvGrpSpPr>
        <p:grpSpPr>
          <a:xfrm>
            <a:off x="255600" y="133200"/>
            <a:ext cx="4005360" cy="4067280"/>
            <a:chOff x="255600" y="133200"/>
            <a:chExt cx="4005360" cy="4067280"/>
          </a:xfrm>
        </p:grpSpPr>
        <p:pic>
          <p:nvPicPr>
            <p:cNvPr id="52" name="Oval 14" descr=""/>
            <p:cNvPicPr/>
            <p:nvPr/>
          </p:nvPicPr>
          <p:blipFill>
            <a:blip r:embed="rId5"/>
            <a:stretch/>
          </p:blipFill>
          <p:spPr>
            <a:xfrm>
              <a:off x="255600" y="133200"/>
              <a:ext cx="400536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49240" y="733320"/>
              <a:ext cx="2819520" cy="28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4" name="Oval 15"/>
          <p:cNvGrpSpPr/>
          <p:nvPr/>
        </p:nvGrpSpPr>
        <p:grpSpPr>
          <a:xfrm>
            <a:off x="255600" y="133200"/>
            <a:ext cx="3914640" cy="3908520"/>
            <a:chOff x="255600" y="133200"/>
            <a:chExt cx="3914640" cy="3908520"/>
          </a:xfrm>
        </p:grpSpPr>
        <p:pic>
          <p:nvPicPr>
            <p:cNvPr id="55" name="Oval 15" descr=""/>
            <p:cNvPicPr/>
            <p:nvPr/>
          </p:nvPicPr>
          <p:blipFill>
            <a:blip r:embed="rId6"/>
            <a:stretch/>
          </p:blipFill>
          <p:spPr>
            <a:xfrm>
              <a:off x="255600" y="133200"/>
              <a:ext cx="391464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5200" y="709560"/>
              <a:ext cx="2755800" cy="27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A8AC0-4748-446F-8ADE-DD17BF053F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0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99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0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92488-5B03-4FE9-902F-58E7ACC405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0" y="1460520"/>
            <a:ext cx="9144000" cy="46080"/>
            <a:chOff x="0" y="1460520"/>
            <a:chExt cx="9144000" cy="46080"/>
          </a:xfrm>
        </p:grpSpPr>
        <p:sp>
          <p:nvSpPr>
            <p:cNvPr id="143" name="Straight Connector 7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>
              <a:off x="0" y="14605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145" name="Group 9"/>
          <p:cNvGrpSpPr/>
          <p:nvPr/>
        </p:nvGrpSpPr>
        <p:grpSpPr>
          <a:xfrm>
            <a:off x="0" y="4952880"/>
            <a:ext cx="9144000" cy="46080"/>
            <a:chOff x="0" y="4952880"/>
            <a:chExt cx="9144000" cy="46080"/>
          </a:xfrm>
        </p:grpSpPr>
        <p:sp>
          <p:nvSpPr>
            <p:cNvPr id="146" name="Straight Connector 10"/>
            <p:cNvSpPr/>
            <p:nvPr/>
          </p:nvSpPr>
          <p:spPr>
            <a:xfrm>
              <a:off x="0" y="499752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>
              <a:off x="0" y="49528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148" name="Oval 12" descr=""/>
          <p:cNvPicPr/>
          <p:nvPr/>
        </p:nvPicPr>
        <p:blipFill>
          <a:blip r:embed="rId3"/>
          <a:stretch/>
        </p:blipFill>
        <p:spPr>
          <a:xfrm>
            <a:off x="66600" y="658800"/>
            <a:ext cx="5396040" cy="5400720"/>
          </a:xfrm>
          <a:prstGeom prst="rect">
            <a:avLst/>
          </a:prstGeom>
          <a:ln w="0">
            <a:noFill/>
          </a:ln>
        </p:spPr>
      </p:pic>
      <p:grpSp>
        <p:nvGrpSpPr>
          <p:cNvPr id="149" name="Oval 13"/>
          <p:cNvGrpSpPr/>
          <p:nvPr/>
        </p:nvGrpSpPr>
        <p:grpSpPr>
          <a:xfrm>
            <a:off x="225360" y="706320"/>
            <a:ext cx="4992840" cy="4992840"/>
            <a:chOff x="225360" y="706320"/>
            <a:chExt cx="4992840" cy="4992840"/>
          </a:xfrm>
        </p:grpSpPr>
        <p:pic>
          <p:nvPicPr>
            <p:cNvPr id="150" name="Oval 13" descr=""/>
            <p:cNvPicPr/>
            <p:nvPr/>
          </p:nvPicPr>
          <p:blipFill>
            <a:blip r:embed="rId4"/>
            <a:stretch/>
          </p:blipFill>
          <p:spPr>
            <a:xfrm>
              <a:off x="225360" y="706320"/>
              <a:ext cx="4992840" cy="49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958680" y="1442880"/>
              <a:ext cx="352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7"/>
          <p:cNvGrpSpPr/>
          <p:nvPr/>
        </p:nvGrpSpPr>
        <p:grpSpPr>
          <a:xfrm>
            <a:off x="0" y="1447920"/>
            <a:ext cx="9144000" cy="46080"/>
            <a:chOff x="0" y="1447920"/>
            <a:chExt cx="9144000" cy="46080"/>
          </a:xfrm>
        </p:grpSpPr>
        <p:sp>
          <p:nvSpPr>
            <p:cNvPr id="193" name="Straight Connector 7"/>
            <p:cNvSpPr/>
            <p:nvPr/>
          </p:nvSpPr>
          <p:spPr>
            <a:xfrm>
              <a:off x="0" y="14925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>
              <a:off x="0" y="144792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195" name="Group 10"/>
          <p:cNvGrpSpPr/>
          <p:nvPr/>
        </p:nvGrpSpPr>
        <p:grpSpPr>
          <a:xfrm>
            <a:off x="0" y="4940280"/>
            <a:ext cx="9144000" cy="44640"/>
            <a:chOff x="0" y="4940280"/>
            <a:chExt cx="9144000" cy="44640"/>
          </a:xfrm>
        </p:grpSpPr>
        <p:sp>
          <p:nvSpPr>
            <p:cNvPr id="196" name="Straight Connector 10"/>
            <p:cNvSpPr/>
            <p:nvPr/>
          </p:nvSpPr>
          <p:spPr>
            <a:xfrm>
              <a:off x="0" y="498348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>
              <a:off x="0" y="494028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2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C1307-68FC-41D1-A23C-F0B0BAE9DE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240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41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C447E-AD97-4EBF-A47D-3EF00EB838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284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85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19CA8-263E-4C79-A74D-71E3FFD43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6"/>
          <p:cNvGrpSpPr/>
          <p:nvPr/>
        </p:nvGrpSpPr>
        <p:grpSpPr>
          <a:xfrm>
            <a:off x="0" y="1584360"/>
            <a:ext cx="9144000" cy="44280"/>
            <a:chOff x="0" y="1584360"/>
            <a:chExt cx="9144000" cy="44280"/>
          </a:xfrm>
        </p:grpSpPr>
        <p:sp>
          <p:nvSpPr>
            <p:cNvPr id="328" name="Straight Connector 7"/>
            <p:cNvSpPr/>
            <p:nvPr/>
          </p:nvSpPr>
          <p:spPr>
            <a:xfrm>
              <a:off x="0" y="162720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9" name="Straight Connector 8"/>
            <p:cNvSpPr/>
            <p:nvPr/>
          </p:nvSpPr>
          <p:spPr>
            <a:xfrm>
              <a:off x="0" y="1584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1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41242-D54F-4A92-8AFB-687D12DE61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6"/>
          <p:cNvGrpSpPr/>
          <p:nvPr/>
        </p:nvGrpSpPr>
        <p:grpSpPr>
          <a:xfrm>
            <a:off x="0" y="1179360"/>
            <a:ext cx="9144000" cy="44640"/>
            <a:chOff x="0" y="1179360"/>
            <a:chExt cx="9144000" cy="44640"/>
          </a:xfrm>
        </p:grpSpPr>
        <p:sp>
          <p:nvSpPr>
            <p:cNvPr id="372" name="Straight Connector 7"/>
            <p:cNvSpPr/>
            <p:nvPr/>
          </p:nvSpPr>
          <p:spPr>
            <a:xfrm>
              <a:off x="0" y="122256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0" y="117936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0" y="5715000"/>
            <a:ext cx="9144000" cy="46080"/>
            <a:chOff x="0" y="5715000"/>
            <a:chExt cx="9144000" cy="46080"/>
          </a:xfrm>
        </p:grpSpPr>
        <p:sp>
          <p:nvSpPr>
            <p:cNvPr id="375" name="Straight Connector 10"/>
            <p:cNvSpPr/>
            <p:nvPr/>
          </p:nvSpPr>
          <p:spPr>
            <a:xfrm>
              <a:off x="0" y="5759640"/>
              <a:ext cx="9144000" cy="1440"/>
            </a:xfrm>
            <a:prstGeom prst="line">
              <a:avLst/>
            </a:prstGeom>
            <a:ln w="88920">
              <a:solidFill>
                <a:srgbClr val="5799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6" name="Straight Connector 11"/>
            <p:cNvSpPr/>
            <p:nvPr/>
          </p:nvSpPr>
          <p:spPr>
            <a:xfrm>
              <a:off x="0" y="5715000"/>
              <a:ext cx="914400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377" name="Oval 12" descr=""/>
          <p:cNvPicPr/>
          <p:nvPr/>
        </p:nvPicPr>
        <p:blipFill>
          <a:blip r:embed="rId3"/>
          <a:stretch/>
        </p:blipFill>
        <p:spPr>
          <a:xfrm>
            <a:off x="4218120" y="1085760"/>
            <a:ext cx="4852800" cy="4857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0350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336600">
              <a:spcBef>
                <a:spcPts val="601"/>
              </a:spcBef>
              <a:buClr>
                <a:srgbClr val="f97817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720800" indent="-349200">
              <a:spcBef>
                <a:spcPts val="601"/>
              </a:spcBef>
              <a:buClr>
                <a:srgbClr val="ffb91d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720800" indent="-34920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4"/>
          </p:nvPr>
        </p:nvSpPr>
        <p:spPr>
          <a:xfrm>
            <a:off x="6570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0A8C-3635-45B3-844A-E490984B8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14440" y="1573200"/>
            <a:ext cx="491004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UMMERTIME-SEASONS 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114440" y="3711240"/>
            <a:ext cx="49100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DAPTED FROM BLUES SONG FOR English Learners </a:t>
            </a:r>
            <a:endParaRPr b="1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By KATY SALGADO</a:t>
            </a:r>
            <a:endParaRPr b="1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UMMERTIME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UMMERTIME AND THE LIVING IS EAS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ON VACATION AND THE BEACHES ARE PACKED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GRAB A TOWEL AND A SWIMSUIT AND SUNSCREEN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ND HUSH LITTLE BABY, DON’T CRY 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5626080" y="391788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AUTUMN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ALL IS HERE AND THE LEAVES ARE FALL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AN DIEGO CAN STILL BE HOT AND DR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CHOOL BEGINS AND THE DAYS WILL GET SHORTER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HUSH LITTLE BABY, DON’T YOU CRY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413400" y="3728880"/>
            <a:ext cx="22734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INTERTIME AND THE WEATHER IS COLDER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GO TO THE MOUNTAINS IF YOU WANT TO SEE SNOW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AKE A COAT AND LET’S DRINK SOME HOT CHOCOLATE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ND HUSH LITTLE BAB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ON’T YOU CR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4356000" y="40672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PRING IS HERE AND THE FLOWERS ARE BLOOM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BIRDS ARE CHIRPING AND THEY’RE MAKING THEIR NESTS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RAIN STILL FALLS AND THE CHICKS ARE HATCHING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 HUSH LITTLE BABY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ON’T YOU CRY.</a:t>
            </a:r>
            <a:endParaRPr b="1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4559400" y="3952800"/>
            <a:ext cx="3314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3:20Z</dcterms:created>
  <dc:creator>City School</dc:creator>
  <dc:description/>
  <dc:language>en-US</dc:language>
  <cp:lastModifiedBy>122790</cp:lastModifiedBy>
  <dcterms:modified xsi:type="dcterms:W3CDTF">2011-07-07T20:29:51Z</dcterms:modified>
  <cp:revision>3</cp:revision>
  <dc:subject/>
  <dc:title>SUMMERTIME-SEASONS</dc:title>
</cp:coreProperties>
</file>